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7FAC-0935-40BF-B693-EF702DFE2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8132-957E-433F-B9AB-E184A085D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373C-0DE0-4BF1-9A38-FB3F275CC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B9CE-F91E-4684-BCA6-F4FE81C81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5901-0E8C-4064-8180-8675C6FF7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944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1960" y="22046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265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2944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1960" y="4424040"/>
            <a:ext cx="25736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FD49-F274-4006-BACC-8897B1F31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BD65-3096-4525-B426-8151556CC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D8BD-660F-436A-B3C8-E518FEA32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3DBD-0927-4FAC-BCED-6DAD1AA79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F7F9-F285-4C24-B284-9DF1A21F3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2640" y="44240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9A3A-D716-4EC3-B4F6-94709649E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2640" y="2204640"/>
            <a:ext cx="3900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26560" y="4424040"/>
            <a:ext cx="79930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84AEA-4DD1-429D-99BB-1B1657143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B92F-86A4-45F4-B148-AED7E216FFEE}" type="slidenum"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Times New Roman"/>
              </a:rPr>
              <a:t> od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0"/>
          <p:cNvSpPr/>
          <p:nvPr/>
        </p:nvSpPr>
        <p:spPr>
          <a:xfrm>
            <a:off x="0" y="2664000"/>
            <a:ext cx="6227640" cy="1008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235160" indent="-228600">
              <a:spcBef>
                <a:spcPts val="700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4304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360" y="270828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Verbalne i Neverbaln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omunikacije</a:t>
            </a:r>
            <a:endParaRPr b="0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072040" y="4214880"/>
            <a:ext cx="3236760" cy="2234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grfic.com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o je samo primer, nikako ne predajte ovo kao vasu prezentacij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9280" y="645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rt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D816-0C6F-438A-9077-3C1665DE3FD9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Masovni Medij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ovni mediji (tv,radio,novine,internet ...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Mas mediji spadaju pod verbalane komunikacije i u današnje vreme pretstvaljaju bitan deo života svakog čoveka (informisanost)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blici mas medija mogu biti usmeni (tv, radio) ili pismeni (novine, www) ali su u oba slučaja posredni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2420640"/>
            <a:ext cx="6156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ahoma"/>
              </a:rPr>
              <a:t>HVALA NA PAŽNJI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4DBF-B165-495D-8204-C09A5968719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adr</a:t>
            </a: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žaj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Šta je komunikacija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Komunikacioni znakov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Podel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Ne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9E25-31B2-4939-82F2-53410A73049E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reklo reči komunikacija je od lat. reči “communicatio” ili “communicare” što znači saopštiti ili saopštavat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je sastavni deo svakog kontakta među ljudima, a njen najrazvijeniji oblik je govor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d pojmom 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od ljudi podrazumevam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renošenje poruka putem znakov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ostoje dve vrste komunikacijskih znakov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mbo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ignal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DC7A-3DEE-43E0-8EB5-BC0A425C13F0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Komunikacioni znakovi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mbol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znaci koji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amerno i 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upućuju da bi se drugima nešto saopštil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znaci su npr. reči i rečenice u razgovoru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Signali</a:t>
            </a: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u znaci koji se javljaju spontano tj.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namerno i nesvesno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 Nazivamo ih i </a:t>
            </a:r>
            <a:r>
              <a:rPr b="0" i="1" lang="sr-Latn-CS" sz="2400" spc="-1" strike="noStrike">
                <a:solidFill>
                  <a:srgbClr val="4d4d4d"/>
                </a:solidFill>
                <a:latin typeface="Arial"/>
              </a:rPr>
              <a:t>ekspresivnim znakovim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Takvi su npr. bledilo ili rumenilo lica ili neka grimasa i pokret kao izraz uzbuđenja a ne namernog ponašan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3EF-73D5-48EA-9CFD-6CD1B95A9F6C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Podel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rema vrsti znakova koji se koriste razlikujemo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Komunikaciju simbolima (svesno, namer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d4d4d"/>
                </a:solidFill>
                <a:latin typeface="Arial"/>
              </a:rPr>
              <a:t>Ekspresivnu komunikaciju (nesveno, spontano)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Ukoliko se za komuniciranje koriste neka tehnička 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sredstva takva 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osredn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Komunikacija j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posredn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kad nema tehničkih sredstav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ajvažnija podela komunikacije je na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826920" indent="-285480">
              <a:spcBef>
                <a:spcPts val="55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4d4d4d"/>
                </a:solidFill>
                <a:latin typeface="Arial"/>
              </a:rPr>
              <a:t>Neverbalnu</a:t>
            </a:r>
            <a:endParaRPr b="1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2999-9012-4657-96B2-C7997508F983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a je komunikacija pri kojoj se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 koriste reč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omunikacija među ljudima je puna neverbalnih komunikacionih znakova a bez njih bi ona bila mnogo siromašnija, nepotpunija i teže bi se odvijal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Neverbalnom komunikacijom se izražavaju prvenstveno emocije i stavovi učesnika u komunikaciji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Putem neverbalne komunikacije mi možemo da vidimo reagovanja slušaoca a da nam on ništa ni ne kaž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8B73-48CB-4234-A453-8EBCC0ABC2B2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Propratne glasovne odlike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vrsta neverbalnih znakova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Ustvari to nisu pravi govorni znaci (kao reči) već karakteristike pri izgovaranju reči i rečenica npr. razlike u brzini, intenzitetu i ritmu izgovaranja (npr. kod homonima)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Ekstralingvistički komunikacioni znac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su oni koji nisu sastvaljeni ni od osnovnih ni propratnih glasovnih draži,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a uglavnom se odnose na pokrete i facijalnu ekspresiju.</a:t>
            </a:r>
            <a:br>
              <a:rPr sz="2400"/>
            </a:b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Pod facijalnom ekspresijom podrazumevamo razne izraze lica izazvanom pokretima mišića lic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82D4-F716-4183-923F-DC17650722A8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d4d4d"/>
                </a:solidFill>
                <a:latin typeface="Arial"/>
              </a:rPr>
              <a:t>- Verbalna komunikacij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je ona koja se odvija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putem reći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 i sklopova reči određenog jezik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Verbalna komunikacija je najbogatija i najrazvijenija simbolička komunikacij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- Kako svaki jezik raspolaže sa stotinama hiljada reći, i mogućnostima njihovog menjanja i kombinovanja, verbalna komunikacija predstavalja gotovo </a:t>
            </a:r>
            <a:r>
              <a:rPr b="0" lang="sr-Latn-CS" sz="2400" spc="-1" strike="noStrike" u="sng">
                <a:solidFill>
                  <a:srgbClr val="4d4d4d"/>
                </a:solidFill>
                <a:uFillTx/>
                <a:latin typeface="Arial"/>
              </a:rPr>
              <a:t>neograničenu mogućnost kombinovanja znakova</a:t>
            </a:r>
            <a:r>
              <a:rPr b="0" lang="sr-Latn-CS" sz="2400" spc="-1" strike="noStrike">
                <a:solidFill>
                  <a:srgbClr val="4d4d4d"/>
                </a:solidFill>
                <a:latin typeface="Arial"/>
              </a:rPr>
              <a:t>, formulisanja i saopštavanja složenih sadržaja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33C8-56B5-4F9B-B09B-A4770BBDF38A}" type="slidenum">
              <a:rPr b="0" lang="en-US" sz="18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 od 11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cc"/>
                </a:solidFill>
                <a:latin typeface="Arial"/>
              </a:rPr>
              <a:t>Verbalna Komunikacija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9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Verbalna komunikacija počiva na sposobnosti čoveka da proizvodi veći broj glasova koji se povezuju u skupove glasova ili reči.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- Na izgovaranju glasova počiva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u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verbalna komunikacija, dok je </a:t>
            </a:r>
            <a:r>
              <a:rPr b="1" lang="sr-Latn-CS" sz="2800" spc="-1" strike="noStrike">
                <a:solidFill>
                  <a:srgbClr val="4d4d4d"/>
                </a:solidFill>
                <a:latin typeface="Arial"/>
              </a:rPr>
              <a:t>pismena </a:t>
            </a:r>
            <a:r>
              <a:rPr b="0" lang="sr-Latn-CS" sz="2800" spc="-1" strike="noStrike">
                <a:solidFill>
                  <a:srgbClr val="4d4d4d"/>
                </a:solidFill>
                <a:latin typeface="Arial"/>
              </a:rPr>
              <a:t>oslonjenja na slova tj. grafički prikaz glasova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2:18:25Z</dcterms:created>
  <dc:creator>Jovan Cvetanovic 114/06</dc:creator>
  <dc:description/>
  <dc:language>en-US</dc:language>
  <cp:lastModifiedBy>HOME</cp:lastModifiedBy>
  <dcterms:modified xsi:type="dcterms:W3CDTF">2008-02-02T11:01:50Z</dcterms:modified>
  <cp:revision>20</cp:revision>
  <dc:subject>Komunikacije</dc:subject>
  <dc:title>Verbalne i Neverbalne Komunika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Jovan Cvetanovic</vt:lpwstr>
  </property>
</Properties>
</file>